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55B1-A32C-4200-90B5-CAE68F26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0D0C-0A6F-4619-B609-EC55C1ED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2F0-0957-430C-935C-73FEABDB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18F1-42D7-4DA5-AF83-894BF7CD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8D5A-EDE2-431C-82D7-BC86EF2E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89BC-2323-4B4F-83AE-EA178427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EA69-E40B-43C2-9827-73870541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18B0-8A39-43B9-B20E-636A76E1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8E03-123B-4BFD-B21C-A72F3DFE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DD8C-B7DD-4F19-83DE-C51BAFE0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2F21-82B2-495E-B678-420F53F6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215F-135F-44F9-B13E-2B3D620E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944F-1295-445D-AA76-004C1EEC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941F-DD64-4AB2-8778-AE1B6AD4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9730-77E5-4AE0-80A2-D14D552B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D198-77F9-4714-96D5-C81DC9F7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FE42-68C6-47AF-B64F-99E3D22F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F60F-A439-47CC-AF88-30E8356C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511F-ACDD-4F74-A96D-DE565D31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463A-EA3E-40E8-A9A7-80826817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861-8EAC-4607-BEC2-AC453E68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C5EE-8E4D-4E1C-9031-658C602D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FDEA-6688-44E2-9877-4162E9B7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EF73-B1D4-4915-9312-6DBC96F3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8E23-557A-4262-B1C5-DB6EC53878B9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6629040"/>
            <a:ext cx="4419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440"/>
            <a:ext cx="380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171C-8A31-4CD5-AF4D-920C5246029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9A0E-B59F-484E-85BA-2DF51ADFE0DC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3171-BB89-4D8B-9A36-8B20FE2FBC6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PaintStroke"/>
              </a:rPr>
              <a:t>Flowers for Algernon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intStroke"/>
              </a:rPr>
              <a:t>Plotline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intStroke"/>
              </a:rPr>
              <a:t>Isn’t it A-MAZE-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54936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As we have seen, the plotline to </a:t>
            </a:r>
            <a:r>
              <a:rPr b="1" i="1" lang="en-US" sz="3200" spc="-1" strike="noStrike">
                <a:solidFill>
                  <a:srgbClr val="000000"/>
                </a:solidFill>
                <a:latin typeface="Architect"/>
              </a:rPr>
              <a:t>Flowers For Algernon</a:t>
            </a: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 is based on Charlie Gordon’s operation and intellig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As we read the story, we can use a plot line to chart the intro, rising action, crisis and climax based on Charlie’s intellectual development</a:t>
            </a: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2CE-E74F-4432-BEBD-245DF364D4A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5E4B1-6DBA-435C-A54B-65D5AF8532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54936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On a new sheet of paper, sketch out a plot line for FFA.  You can begin by filling in intro (setting, tone, etc).  This may be in point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Tip#1:   Begin with JUST the intro and Rising Action.  There’s a lot to fill in, so you may not have room for the rest o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Tip#2:  Use a text box w/ 12pt type to make it f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0B52-B039-45E8-9350-578904DEEB2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A8EC2-244A-468B-A428-EA84B5D023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620640"/>
            <a:ext cx="777240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Charlie’s intellectual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971640" y="1267920"/>
            <a:ext cx="640872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5084640"/>
            <a:ext cx="230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 / Hospital / Happy tone / Charlie is main char.  Has low-iq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32000" y="486900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r 19). Char. gets surger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4508640"/>
            <a:ext cx="208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5 Mar) Spelling and sentences impr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68360" y="42210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 Apr)  Beats Al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43280" y="37162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6 – 18 Apr)  Punctuation, is, FUN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BD3F-4378-409F-9C3C-3A863E0A1E5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1F8CA-14C3-413E-89EB-3AC7CE1E4F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This is a work-in-progress.  To make for easy access during class, please save it to your desktop </a:t>
            </a:r>
            <a:r>
              <a:rPr b="1" i="1" lang="en-US" sz="3200" spc="-1" strike="noStrike">
                <a:solidFill>
                  <a:srgbClr val="000000"/>
                </a:solidFill>
                <a:latin typeface="Architect"/>
              </a:rPr>
              <a:t>(Charlie’s Intellectual Progres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You will be referring to this activity when it comes time for your project, so make it as complete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05E9-B6B3-42F4-A14A-52213D73112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79E06-74CC-4772-90FD-64051B0C30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14:34:10Z</dcterms:created>
  <dc:creator>Administrator</dc:creator>
  <dc:description/>
  <dc:language>en-US</dc:language>
  <cp:lastModifiedBy>Administrator</cp:lastModifiedBy>
  <dcterms:modified xsi:type="dcterms:W3CDTF">2006-01-16T13:22:14Z</dcterms:modified>
  <cp:revision>9</cp:revision>
  <dc:subject/>
  <dc:title>Flowers for Algernon </dc:title>
</cp:coreProperties>
</file>